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88920" indent="-8892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88920" indent="-8892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88920" indent="-8892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" name="Group 11"/>
          <p:cNvGrpSpPr/>
          <p:nvPr/>
        </p:nvGrpSpPr>
        <p:grpSpPr>
          <a:xfrm>
            <a:off x="584280" y="571680"/>
            <a:ext cx="11849040" cy="8584560"/>
            <a:chOff x="584280" y="571680"/>
            <a:chExt cx="11849040" cy="8584560"/>
          </a:xfrm>
        </p:grpSpPr>
        <p:pic>
          <p:nvPicPr>
            <p:cNvPr id="3" name="Picture 3" descr=""/>
            <p:cNvPicPr/>
            <p:nvPr/>
          </p:nvPicPr>
          <p:blipFill>
            <a:blip r:embed="rId3"/>
            <a:stretch/>
          </p:blipFill>
          <p:spPr>
            <a:xfrm>
              <a:off x="58428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5" name="Line 5"/>
            <p:cNvSpPr/>
            <p:nvPr/>
          </p:nvSpPr>
          <p:spPr>
            <a:xfrm>
              <a:off x="12395160" y="1841400"/>
              <a:ext cx="0" cy="60303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6" name="Picture 6" descr=""/>
            <p:cNvPicPr/>
            <p:nvPr/>
          </p:nvPicPr>
          <p:blipFill>
            <a:blip r:embed="rId5"/>
            <a:stretch/>
          </p:blipFill>
          <p:spPr>
            <a:xfrm>
              <a:off x="58428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7" name="Picture 7" descr=""/>
            <p:cNvPicPr/>
            <p:nvPr/>
          </p:nvPicPr>
          <p:blipFill>
            <a:blip r:embed="rId6"/>
            <a:stretch/>
          </p:blipFill>
          <p:spPr>
            <a:xfrm>
              <a:off x="1068084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8" name="Line 8"/>
            <p:cNvSpPr/>
            <p:nvPr/>
          </p:nvSpPr>
          <p:spPr>
            <a:xfrm>
              <a:off x="1790640" y="91058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9" name="Line 9"/>
            <p:cNvSpPr/>
            <p:nvPr/>
          </p:nvSpPr>
          <p:spPr>
            <a:xfrm>
              <a:off x="608040" y="1855440"/>
              <a:ext cx="0" cy="60195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" name="Line 10"/>
            <p:cNvSpPr/>
            <p:nvPr/>
          </p:nvSpPr>
          <p:spPr>
            <a:xfrm>
              <a:off x="1790640" y="59688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1071864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56592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95544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39536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83564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26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427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29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30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6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510552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75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476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78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79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1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2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3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4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5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56120" y="2882880"/>
            <a:ext cx="510516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9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50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52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53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5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grpSp>
        <p:nvGrpSpPr>
          <p:cNvPr id="97" name="Group 12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98" name="Picture 2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00" name="Picture 4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01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Line 6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510552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147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49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50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584280" y="571680"/>
            <a:ext cx="11849040" cy="8584560"/>
            <a:chOff x="584280" y="571680"/>
            <a:chExt cx="11849040" cy="8584560"/>
          </a:xfrm>
        </p:grpSpPr>
        <p:pic>
          <p:nvPicPr>
            <p:cNvPr id="195" name="Picture 2" descr=""/>
            <p:cNvPicPr/>
            <p:nvPr/>
          </p:nvPicPr>
          <p:blipFill>
            <a:blip r:embed="rId3"/>
            <a:stretch/>
          </p:blipFill>
          <p:spPr>
            <a:xfrm>
              <a:off x="58428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96" name="Picture 3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197" name="Line 4"/>
            <p:cNvSpPr/>
            <p:nvPr/>
          </p:nvSpPr>
          <p:spPr>
            <a:xfrm>
              <a:off x="12395160" y="1841400"/>
              <a:ext cx="0" cy="60303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198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99" name="Picture 6" descr=""/>
            <p:cNvPicPr/>
            <p:nvPr/>
          </p:nvPicPr>
          <p:blipFill>
            <a:blip r:embed="rId6"/>
            <a:stretch/>
          </p:blipFill>
          <p:spPr>
            <a:xfrm>
              <a:off x="1068084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200" name="Line 7"/>
            <p:cNvSpPr/>
            <p:nvPr/>
          </p:nvSpPr>
          <p:spPr>
            <a:xfrm>
              <a:off x="1790640" y="91058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>
              <a:off x="608040" y="1855440"/>
              <a:ext cx="0" cy="60195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02" name="Line 9"/>
            <p:cNvSpPr/>
            <p:nvPr/>
          </p:nvSpPr>
          <p:spPr>
            <a:xfrm>
              <a:off x="1790640" y="59688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060720"/>
            <a:ext cx="510552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143000" y="5397120"/>
            <a:ext cx="510552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116640" indent="-11664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6640" indent="-11664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16640" indent="-11664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41" name="Group 11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242" name="Line 3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243" name="Picture 4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6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246" name="Picture 7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Line 8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6895800"/>
            <a:ext cx="107186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143000" y="8102520"/>
            <a:ext cx="10718640" cy="60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marL="442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44280" indent="-4428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44280" indent="-4428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44280" indent="-4428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88" name="Group 11"/>
          <p:cNvGrpSpPr/>
          <p:nvPr/>
        </p:nvGrpSpPr>
        <p:grpSpPr>
          <a:xfrm>
            <a:off x="495360" y="6413400"/>
            <a:ext cx="12014280" cy="2806560"/>
            <a:chOff x="495360" y="6413400"/>
            <a:chExt cx="12014280" cy="2806560"/>
          </a:xfrm>
        </p:grpSpPr>
        <p:sp>
          <p:nvSpPr>
            <p:cNvPr id="289" name="Line 3"/>
            <p:cNvSpPr/>
            <p:nvPr/>
          </p:nvSpPr>
          <p:spPr>
            <a:xfrm>
              <a:off x="609840" y="651492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90" name="Line 4"/>
            <p:cNvSpPr/>
            <p:nvPr/>
          </p:nvSpPr>
          <p:spPr>
            <a:xfrm>
              <a:off x="12395160" y="6527880"/>
              <a:ext cx="0" cy="25761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291" name="Picture 5" descr=""/>
            <p:cNvPicPr/>
            <p:nvPr/>
          </p:nvPicPr>
          <p:blipFill>
            <a:blip r:embed="rId3"/>
            <a:stretch/>
          </p:blipFill>
          <p:spPr>
            <a:xfrm>
              <a:off x="12382560" y="641340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6" descr=""/>
            <p:cNvPicPr/>
            <p:nvPr/>
          </p:nvPicPr>
          <p:blipFill>
            <a:blip r:embed="rId4"/>
            <a:stretch/>
          </p:blipFill>
          <p:spPr>
            <a:xfrm>
              <a:off x="495360" y="641340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8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Line 9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608040" y="6527880"/>
              <a:ext cx="0" cy="25779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1143000" y="825120"/>
            <a:ext cx="10718640" cy="810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1" marL="96516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2" marL="140976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3" marL="185436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4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5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6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334" name="Group 10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335" name="Line 2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336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4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5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339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Line 7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41" name="Line 8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42" name="Line 9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9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380" name="Line 1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381" name="Picture 2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3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384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Line 6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86" name="Line 7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87" name="Line 8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1143000" y="4965480"/>
            <a:ext cx="10718640" cy="1130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" descr="Screen Shot 2014-08-16 at 4.57.36 pm.png"/>
          <p:cNvPicPr/>
          <p:nvPr/>
        </p:nvPicPr>
        <p:blipFill>
          <a:blip r:embed="rId3"/>
          <a:stretch/>
        </p:blipFill>
        <p:spPr>
          <a:xfrm>
            <a:off x="453960" y="196920"/>
            <a:ext cx="12169800" cy="921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30320" y="555120"/>
            <a:ext cx="7313400" cy="8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d583f"/>
                </a:solidFill>
                <a:latin typeface="Arial"/>
                <a:ea typeface="Arial"/>
              </a:rPr>
              <a:t>The Pledge</a:t>
            </a:r>
            <a:endParaRPr b="0" lang="en-US" sz="66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25600" y="1275840"/>
            <a:ext cx="11880720" cy="813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674b23"/>
                </a:solidFill>
                <a:latin typeface="Arial"/>
                <a:ea typeface="Arial"/>
              </a:rPr>
              <a:t>I promise…</a:t>
            </a:r>
            <a:endParaRPr b="0" lang="en-US" sz="54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honour God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use kind words 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treat all people fairly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not to make fun of people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help my friends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include people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show the G.R.E.A. T values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    </a:t>
            </a: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n all I do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109960" y="555120"/>
            <a:ext cx="9864720" cy="8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d583f"/>
                </a:solidFill>
                <a:latin typeface="Arial"/>
                <a:ea typeface="Arial"/>
              </a:rPr>
              <a:t>Bucket Fillers </a:t>
            </a:r>
            <a:endParaRPr b="0" lang="en-US" sz="6600" spc="-1" strike="noStrike">
              <a:solidFill>
                <a:srgbClr val="9d583f"/>
              </a:solidFill>
              <a:latin typeface="Baskerville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143000" y="4965480"/>
            <a:ext cx="10718640" cy="11300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" descr="Screen Shot 2014-09-07 at 9.30.44 pm.png"/>
          <p:cNvPicPr/>
          <p:nvPr/>
        </p:nvPicPr>
        <p:blipFill>
          <a:blip r:embed="rId2"/>
          <a:stretch/>
        </p:blipFill>
        <p:spPr>
          <a:xfrm>
            <a:off x="598320" y="1563840"/>
            <a:ext cx="12025440" cy="709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109960" y="555120"/>
            <a:ext cx="9864720" cy="8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d583f"/>
                </a:solidFill>
                <a:latin typeface="Arial"/>
                <a:ea typeface="Arial"/>
              </a:rPr>
              <a:t>Bucket Fillers </a:t>
            </a:r>
            <a:endParaRPr b="0" lang="en-US" sz="6600" spc="-1" strike="noStrike">
              <a:solidFill>
                <a:srgbClr val="9d583f"/>
              </a:solidFill>
              <a:latin typeface="Baskerville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1143000" y="4965480"/>
            <a:ext cx="10718640" cy="11300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" descr="Screen Shot 2014-09-07 at 9.30.23 pm.png"/>
          <p:cNvPicPr/>
          <p:nvPr/>
        </p:nvPicPr>
        <p:blipFill>
          <a:blip r:embed="rId2"/>
          <a:stretch/>
        </p:blipFill>
        <p:spPr>
          <a:xfrm>
            <a:off x="885960" y="1708200"/>
            <a:ext cx="11399760" cy="7345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Glasshouse Country Christian College</cp:lastModifiedBy>
  <dcterms:modified xsi:type="dcterms:W3CDTF">2014-09-07T11:35:57Z</dcterms:modified>
  <cp:revision>78</cp:revision>
  <dc:subject/>
  <dc:title>Ideas</dc:title>
</cp:coreProperties>
</file>